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0BC5-BC48-498A-B4A9-8497A5D97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81AF-1B15-4FAF-B1B4-4EB20BB26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04D2-1D89-4B26-9ECB-F946DC421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AB4D-4356-4DAD-B9BE-2E107CF33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66CF-35AD-4503-A278-15D7937F2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3EC1-225F-4A55-82C6-E09B8850F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5067-5C2D-4C10-84F9-0688112BC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3C16-769D-42A3-AF6D-571492B85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D0D9-9939-4C50-9ECB-2746CE5E4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A566-7DD9-4408-B945-D2FFDF419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60F1-EC9C-4883-A14E-7B51DD7B4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9DF7-0C5B-4E84-AC4D-7DC9F7C58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D7B6-0E26-44A4-801B-813BC7BC7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B2E31-7674-468A-9B7A-4AA24BD2F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DB368-F73C-4C5F-A038-64BDDF4C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57A15-5C73-49A0-9BB2-CCC0ECDDA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8FF83-DC41-42E4-8E2B-97F67D5F1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AE17C-BE27-42A8-BA91-F91481FA7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B448-C4D5-42F0-BE93-C0727B7FC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18E07-AA7C-49E1-8E0D-AD3E6676C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6A78-A5D7-4273-86E6-742BC6BE9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E66A1-7CF4-4181-A907-65C211EE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BA64-0FDC-44F3-9341-3B76D2AD1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EBE5-D8CF-4513-AD31-F1E30236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F795-4D48-47CE-8AD0-A1D435A1C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28DE-719F-45C7-91DC-BDF906215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cdevelopment.wikispaces.co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mjones@kaplan.edu"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724D-3075-4F15-AAE2-0E42B3A12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533520" y="533160"/>
            <a:ext cx="77724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114</a:t>
            </a:r>
            <a:br>
              <a:rPr sz="4400"/>
            </a:br>
            <a:r>
              <a:rPr b="0" lang="en-US" sz="4400" spc="-1" strike="noStrike">
                <a:solidFill>
                  <a:srgbClr val="000000"/>
                </a:solidFill>
                <a:latin typeface="Arial"/>
              </a:rPr>
              <a:t>Infant, Toddler and Early Childhood Development</a:t>
            </a:r>
            <a:endParaRPr b="0" lang="en-US" sz="4400" spc="-1" strike="noStrike">
              <a:solidFill>
                <a:srgbClr val="000000"/>
              </a:solidFill>
              <a:latin typeface="Arial"/>
            </a:endParaRPr>
          </a:p>
        </p:txBody>
      </p:sp>
      <p:sp>
        <p:nvSpPr>
          <p:cNvPr id="50" name="PlaceHolder 2"/>
          <p:cNvSpPr>
            <a:spLocks noGrp="1"/>
          </p:cNvSpPr>
          <p:nvPr>
            <p:ph type="subTitle"/>
          </p:nvPr>
        </p:nvSpPr>
        <p:spPr>
          <a:xfrm>
            <a:off x="762120" y="2895120"/>
            <a:ext cx="3047760" cy="35816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uld be helpful to have your syllabus nearby.  Feel free to chat with your classmates before class begins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8:00 PM</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51" name="Picture 5" descr="2946308_thb.jpg"/>
          <p:cNvPicPr/>
          <p:nvPr/>
        </p:nvPicPr>
        <p:blipFill>
          <a:blip r:embed="rId1"/>
          <a:stretch/>
        </p:blipFill>
        <p:spPr>
          <a:xfrm>
            <a:off x="4572000" y="2895480"/>
            <a:ext cx="3289320" cy="314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se Calendar</a:t>
            </a: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 22 – 1</a:t>
            </a:r>
            <a:r>
              <a:rPr b="0" lang="en-US" sz="3200" spc="-1" strike="noStrike" baseline="30000">
                <a:solidFill>
                  <a:srgbClr val="000000"/>
                </a:solidFill>
                <a:latin typeface="Arial"/>
              </a:rPr>
              <a:t>st</a:t>
            </a:r>
            <a:r>
              <a:rPr b="0" lang="en-US" sz="3200" spc="-1" strike="noStrike">
                <a:solidFill>
                  <a:srgbClr val="000000"/>
                </a:solidFill>
                <a:latin typeface="Arial"/>
              </a:rPr>
              <a:t> day of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 28 – last day for drop/add without a “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22 – last day to request incomplet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v. 23 – FINAL PROJECT D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25-28 – Thanksgi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 30 – End of term</a:t>
            </a:r>
            <a:endParaRPr b="0" lang="en-US" sz="3200" spc="-1" strike="noStrike">
              <a:solidFill>
                <a:srgbClr val="000000"/>
              </a:solidFill>
              <a:latin typeface="Arial"/>
            </a:endParaRPr>
          </a:p>
        </p:txBody>
      </p:sp>
      <p:sp>
        <p:nvSpPr>
          <p:cNvPr id="8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5ED5-76C6-432E-A249-6401D854F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class “Wikispace” (in a separate windo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ecdevelopment.wikispaces.c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video on Early Childhood Edu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to the seminar and sh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hild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worker actions</a:t>
            </a:r>
            <a:endParaRPr b="0" lang="en-US" sz="2800" spc="-1" strike="noStrike">
              <a:solidFill>
                <a:srgbClr val="000000"/>
              </a:solidFill>
              <a:latin typeface="Arial"/>
            </a:endParaRPr>
          </a:p>
        </p:txBody>
      </p:sp>
      <p:sp>
        <p:nvSpPr>
          <p:cNvPr id="8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16A84-836D-4C83-BECC-B53F6B530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B22C-747D-4A3D-B1C5-B20F2FECA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8377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in THEORY</a:t>
            </a:r>
            <a:endParaRPr b="0" lang="en-US" sz="4400" spc="-1" strike="noStrike">
              <a:solidFill>
                <a:srgbClr val="000000"/>
              </a:solidFill>
              <a:latin typeface="Arial"/>
            </a:endParaRPr>
          </a:p>
        </p:txBody>
      </p:sp>
      <p:sp>
        <p:nvSpPr>
          <p:cNvPr id="86" name="PlaceHolder 2"/>
          <p:cNvSpPr>
            <a:spLocks noGrp="1"/>
          </p:cNvSpPr>
          <p:nvPr>
            <p:ph type="subTitle"/>
          </p:nvPr>
        </p:nvSpPr>
        <p:spPr>
          <a:xfrm>
            <a:off x="1371600" y="2209320"/>
            <a:ext cx="6400800" cy="3429000"/>
          </a:xfrm>
          <a:prstGeom prst="rect">
            <a:avLst/>
          </a:prstGeom>
          <a:noFill/>
          <a:ln w="0">
            <a:noFill/>
          </a:ln>
        </p:spPr>
        <p:txBody>
          <a:bodyPr anchor="t">
            <a:no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theories on learning:</a:t>
            </a:r>
            <a:endParaRPr b="0" lang="en-US" sz="32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dur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age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gots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Early Childhood Development</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how children from prebirth through age eight grow and develop in the physical/motor, social, emotional, cognitive, language, and literacy dom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ll development is interrelated, interactive, and mutually dependent”</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 &amp; Puckett, 2009).</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7D1E-FC76-4AEB-8180-8FDD5ABF6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BAE8-5DC7-4A59-9EBD-665CB40F18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DURA</a:t>
            </a:r>
            <a:endParaRPr b="0" lang="en-US" sz="4400" spc="-1" strike="noStrike">
              <a:solidFill>
                <a:srgbClr val="000000"/>
              </a:solidFill>
              <a:latin typeface="Arial"/>
            </a:endParaRPr>
          </a:p>
        </p:txBody>
      </p:sp>
      <p:sp>
        <p:nvSpPr>
          <p:cNvPr id="92" name="PlaceHolder 2"/>
          <p:cNvSpPr>
            <a:spLocks noGrp="1"/>
          </p:cNvSpPr>
          <p:nvPr>
            <p:ph/>
          </p:nvPr>
        </p:nvSpPr>
        <p:spPr>
          <a:xfrm>
            <a:off x="914040" y="1600200"/>
            <a:ext cx="7543800" cy="46483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learning theori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ldren learn behavior from observa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all learning comes from direct instruction</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zes the importance of role model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amp; Puckett,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BE28-0360-4D3A-8928-31623B94AD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OOM’S TAXONOMY</a:t>
            </a:r>
            <a:br>
              <a:rPr sz="4000"/>
            </a:br>
            <a:r>
              <a:rPr b="1" lang="en-US" sz="2800" spc="-1" strike="noStrike">
                <a:solidFill>
                  <a:srgbClr val="000000"/>
                </a:solidFill>
                <a:latin typeface="Arial"/>
              </a:rPr>
              <a:t>Levels of Thinking</a:t>
            </a:r>
            <a:endParaRPr b="0" lang="en-US" sz="2800" spc="-1" strike="noStrike">
              <a:solidFill>
                <a:srgbClr val="000000"/>
              </a:solidFill>
              <a:latin typeface="Arial"/>
            </a:endParaRPr>
          </a:p>
        </p:txBody>
      </p:sp>
      <p:sp>
        <p:nvSpPr>
          <p:cNvPr id="95" name="PlaceHolder 2"/>
          <p:cNvSpPr>
            <a:spLocks noGrp="1"/>
          </p:cNvSpPr>
          <p:nvPr>
            <p:ph/>
          </p:nvPr>
        </p:nvSpPr>
        <p:spPr>
          <a:xfrm>
            <a:off x="609120" y="1676160"/>
            <a:ext cx="8077320" cy="464796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LEDGE: The recall of specific inform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EHENSION: An understanding of what was rea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The converting of abstract content to concrete situat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IS: The comparison and contrast of the content to personal experience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THESIS: The organization of thoughts, ideas, and information from the cont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The judgment and evaluation of characters, actions, outcome, etc…for personal reflection &amp; understanding.</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Black &amp; Puckett, 2009)</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7A4A-20D8-4297-B8B0-205E71A7D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AN PIAG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838080" y="1600200"/>
            <a:ext cx="7848720" cy="41911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orimotor: 0 to 18 month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operational: 18 months to 6/7 year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rete Operational: 7/8 years to 12 yrs.</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l Operations: 12 years to adulthood</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herton,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V VYGOTSK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one of Proximal Development</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sk is too difficult for the student to perform at all.      Direct intervention from the teacher or ‘expert’ peer is needed.</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Zone of Proximal Development”.  The task requires thinking just above a student’s level of current mastery.  This is the zone in which a student can learn with help from others.</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sk is very simple for an individual student.  NO help is needed from the teacher.  A student regulates own behavior in this zone.  Little new knowledge is constructed in this zone.</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lack &amp; Puckett, 2009).</a:t>
            </a:r>
            <a:endParaRPr b="0"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91CE-1095-4356-B1FD-380A61C4D1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 and ADA</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1 IDEA passed, which stands for the Individual with Disabilities Education A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2 ADA passed, which is the Americans with Disabilities Act.   The ADA mandates that all public schools, family centers, preschools, and public day cares provide equal rights to children with disabiliti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chool districts must provide services to children that qualify.  Students that qualify for certain services will receive an Individual Education Plan or IEP. The IEP originated out of the laws passed in 1974.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laws are the rationalization to providing services and early identification for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nce to these laws has financial and legal implications.   </a:t>
            </a:r>
            <a:endParaRPr b="0" lang="en-US" sz="2400" spc="-1" strike="noStrike">
              <a:solidFill>
                <a:srgbClr val="000000"/>
              </a:solidFill>
              <a:latin typeface="Arial"/>
            </a:endParaRPr>
          </a:p>
        </p:txBody>
      </p:sp>
      <p:sp>
        <p:nvSpPr>
          <p:cNvPr id="10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B76C-84D5-4AD4-AA38-358622558E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have enjoyed our hour together! Have a great week!</a:t>
            </a:r>
            <a:endParaRPr b="0" lang="en-US" sz="4400" spc="-1" strike="noStrike">
              <a:solidFill>
                <a:srgbClr val="000000"/>
              </a:solidFill>
              <a:latin typeface="Arial"/>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FA06-C5FD-465B-8E49-5E90D772F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Content Placeholder 6" descr="39173648_thb.jpg"/>
          <p:cNvPicPr/>
          <p:nvPr/>
        </p:nvPicPr>
        <p:blipFill>
          <a:blip r:embed="rId1"/>
          <a:stretch/>
        </p:blipFill>
        <p:spPr>
          <a:xfrm>
            <a:off x="1447920" y="2286000"/>
            <a:ext cx="5781600" cy="384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to Infant, Toddler, and Early Childhood Development!  </a:t>
            </a:r>
            <a:endParaRPr b="0" lang="en-US" sz="4000" spc="-1" strike="noStrike">
              <a:solidFill>
                <a:srgbClr val="000000"/>
              </a:solidFill>
              <a:latin typeface="Arial"/>
            </a:endParaRPr>
          </a:p>
        </p:txBody>
      </p:sp>
      <p:sp>
        <p:nvSpPr>
          <p:cNvPr id="53" name=""/>
          <p:cNvSpPr txBox="1"/>
          <p:nvPr/>
        </p:nvSpPr>
        <p:spPr>
          <a:xfrm>
            <a:off x="380520" y="2057400"/>
            <a:ext cx="3429000" cy="3657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lo, my name is Marilyn Jones.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will be your instructor for this course.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call me Marilyn.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9AFE-0AFC-4A7D-8F3B-342502502E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5" descr="Joyce.Blake.jpg"/>
          <p:cNvPicPr/>
          <p:nvPr/>
        </p:nvPicPr>
        <p:blipFill>
          <a:blip r:embed="rId1"/>
          <a:stretch/>
        </p:blipFill>
        <p:spPr>
          <a:xfrm>
            <a:off x="4876920" y="1981080"/>
            <a:ext cx="2846160" cy="4267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32E0-725A-4798-B283-7BBE62B7D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herton, J.S., (2005). L</a:t>
            </a:r>
            <a:r>
              <a:rPr b="0" i="1" lang="en-US" sz="2400" spc="-1" strike="noStrike">
                <a:solidFill>
                  <a:srgbClr val="000000"/>
                </a:solidFill>
                <a:latin typeface="Arial"/>
              </a:rPr>
              <a:t>earning and Teaching:  Piaget's developmental theory. </a:t>
            </a:r>
            <a:r>
              <a:rPr b="0" lang="en-US" sz="2400" spc="-1" strike="noStrike">
                <a:solidFill>
                  <a:srgbClr val="000000"/>
                </a:solidFill>
                <a:latin typeface="Arial"/>
              </a:rPr>
              <a:t>Retrieved June 8, 2007 from from</a:t>
            </a:r>
            <a:r>
              <a:rPr b="0" i="1" lang="en-US" sz="2400" spc="-1" strike="noStrike">
                <a:solidFill>
                  <a:srgbClr val="000000"/>
                </a:solidFill>
                <a:latin typeface="Arial"/>
              </a:rPr>
              <a:t> </a:t>
            </a:r>
            <a:r>
              <a:rPr b="0" lang="en-US" sz="2400" spc="-1" strike="noStrike">
                <a:solidFill>
                  <a:srgbClr val="000000"/>
                </a:solidFill>
                <a:latin typeface="Arial"/>
              </a:rPr>
              <a:t>http://www.learningandteaching.info/learning/piaget.ht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J.K., &amp; Puckett, M.P., (2005). </a:t>
            </a:r>
            <a:r>
              <a:rPr b="0" i="1" lang="en-US" sz="2400" spc="-1" strike="noStrike">
                <a:solidFill>
                  <a:srgbClr val="000000"/>
                </a:solidFill>
                <a:latin typeface="Arial"/>
              </a:rPr>
              <a:t>The young child: Development from prebirth through age eight.  Fourth Edition.</a:t>
            </a:r>
            <a:r>
              <a:rPr b="0" lang="en-US" sz="2400" spc="-1" strike="noStrike">
                <a:solidFill>
                  <a:srgbClr val="000000"/>
                </a:solidFill>
                <a:latin typeface="Arial"/>
              </a:rPr>
              <a:t>   Upper Saddle River, NJ:  Pearson Education, In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dakus, S., (2007).  </a:t>
            </a:r>
            <a:r>
              <a:rPr b="0" i="1" lang="en-US" sz="2400" spc="-1" strike="noStrike">
                <a:solidFill>
                  <a:srgbClr val="000000"/>
                </a:solidFill>
                <a:latin typeface="Arial"/>
              </a:rPr>
              <a:t>Seminar Notes on Infant and Toddler Development.</a:t>
            </a:r>
            <a:r>
              <a:rPr b="0" lang="en-US" sz="2400" spc="-1" strike="noStrike">
                <a:solidFill>
                  <a:srgbClr val="000000"/>
                </a:solidFill>
                <a:latin typeface="Arial"/>
              </a:rPr>
              <a:t>  Retrieved August 7, 2007, from Kaplan University’s website:  http://kucampus.kaplan.ed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piter Images Corporation, (2007).  </a:t>
            </a:r>
            <a:r>
              <a:rPr b="0" i="1" lang="en-US" sz="2400" spc="-1" strike="noStrike">
                <a:solidFill>
                  <a:srgbClr val="000000"/>
                </a:solidFill>
                <a:latin typeface="Arial"/>
              </a:rPr>
              <a:t>Clipart.com.  </a:t>
            </a:r>
            <a:r>
              <a:rPr b="0" lang="en-US" sz="2400" spc="-1" strike="noStrike">
                <a:solidFill>
                  <a:srgbClr val="000000"/>
                </a:solidFill>
                <a:latin typeface="Arial"/>
              </a:rPr>
              <a:t>Retrieved August 28, 2007 from website: http://www.clipart.co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ight’s Quot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a:t>
            </a:r>
            <a:r>
              <a:rPr b="0" i="1" lang="en-US" sz="4800" spc="-1" strike="noStrike">
                <a:solidFill>
                  <a:srgbClr val="000000"/>
                </a:solidFill>
                <a:latin typeface="Arial"/>
              </a:rPr>
              <a:t>Children are the world’s most valuable resource and its best hope for the future.”</a:t>
            </a:r>
            <a:endParaRPr b="0" lang="en-US" sz="4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F. Kennedy</a:t>
            </a:r>
            <a:endParaRPr b="0" lang="en-US" sz="32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93CC-F1A6-4139-81E0-FA8220C30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343400" y="1523880"/>
            <a:ext cx="4572000" cy="4983120"/>
          </a:xfrm>
          <a:prstGeom prst="rect">
            <a:avLst/>
          </a:prstGeom>
          <a:noFill/>
          <a:ln w="0">
            <a:noFill/>
          </a:ln>
        </p:spPr>
        <p:txBody>
          <a:bodyPr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ease look for me online any time. If I am busy with another student, I will let you know.</a:t>
            </a: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need to make an appointment to chat, drop me an email at:</a:t>
            </a: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mjones@kaplan.edu</a:t>
            </a:r>
            <a:endParaRPr b="0" lang="en-US" sz="2800" spc="-1" strike="noStrike">
              <a:solidFill>
                <a:srgbClr val="000000"/>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ork full time at another job, but am available in the evening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CE39-90CD-4E21-B5F0-C8ECCC48C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 name="Picture 4" descr="Lydian.Blake.jpg"/>
          <p:cNvPicPr/>
          <p:nvPr/>
        </p:nvPicPr>
        <p:blipFill>
          <a:blip r:embed="rId2"/>
          <a:stretch/>
        </p:blipFill>
        <p:spPr>
          <a:xfrm>
            <a:off x="304920" y="2209680"/>
            <a:ext cx="3968640" cy="2976840"/>
          </a:xfrm>
          <a:prstGeom prst="rect">
            <a:avLst/>
          </a:prstGeom>
          <a:ln w="0">
            <a:noFill/>
          </a:ln>
        </p:spPr>
      </p:pic>
      <p:sp>
        <p:nvSpPr>
          <p:cNvPr id="62" name="TextBox 5"/>
          <p:cNvSpPr/>
          <p:nvPr/>
        </p:nvSpPr>
        <p:spPr>
          <a:xfrm>
            <a:off x="457200" y="609480"/>
            <a:ext cx="784872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add me to your buddy list.  My AOL screen name is </a:t>
            </a:r>
            <a:r>
              <a:rPr b="0" i="1" lang="en-US" sz="2800" spc="-1" strike="noStrike">
                <a:solidFill>
                  <a:srgbClr val="ff0000"/>
                </a:solidFill>
                <a:latin typeface="Arial"/>
              </a:rPr>
              <a:t>KaplanMJJon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llabus</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nar times – Thursdays @ 8 PM (mine) or 10 PM (Marsha Crawf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for semin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uses eBoo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utcomes and General Education Outco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ng Criteria/Course Eval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Boar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iquet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ng Rubr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22B4-BB48-4073-821B-E517C9715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Project</a:t>
            </a:r>
            <a:endParaRPr b="0" lang="en-US" sz="4400" spc="-1" strike="noStrike">
              <a:solidFill>
                <a:srgbClr val="000000"/>
              </a:solidFill>
              <a:latin typeface="Arial"/>
            </a:endParaRPr>
          </a:p>
        </p:txBody>
      </p:sp>
      <p:sp>
        <p:nvSpPr>
          <p:cNvPr id="67" name=""/>
          <p:cNvSpPr txBox="1"/>
          <p:nvPr/>
        </p:nvSpPr>
        <p:spPr>
          <a:xfrm>
            <a:off x="456840" y="1294920"/>
            <a:ext cx="83818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Final Project, you will analyze the components that make up an ideal child care program or facility, as well as examine the role Early Childhood Professionals play in the growth and development of infants, toddlers, and young children ages 4 and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encouraged to choose Option 1, which is a real-life observation and analysis of an actual child care center. If your schedule does not allow you to make such a visit, Option 2 gives you a chance to “visualize” this type of experi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head so you allow for time to visit the facility, organize your paper, write and proofread your paper, and turn it in on or before </a:t>
            </a:r>
            <a:r>
              <a:rPr b="1" lang="en-US" sz="2400" spc="-1" strike="noStrike">
                <a:solidFill>
                  <a:srgbClr val="ff0000"/>
                </a:solidFill>
                <a:latin typeface="Arial"/>
              </a:rPr>
              <a:t>November 23, 2010</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8DDA-CA4F-4C30-B139-EA8F644AA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Started</a:t>
            </a:r>
            <a:endParaRPr b="0" lang="en-US" sz="4400" spc="-1" strike="noStrike">
              <a:solidFill>
                <a:srgbClr val="000000"/>
              </a:solidFill>
              <a:latin typeface="Arial"/>
            </a:endParaRPr>
          </a:p>
        </p:txBody>
      </p:sp>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634E-4959-4D68-B266-39ABBD79A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
          <p:cNvSpPr txBox="1"/>
          <p:nvPr/>
        </p:nvSpPr>
        <p:spPr>
          <a:xfrm>
            <a:off x="838080" y="1523880"/>
            <a:ext cx="7315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adin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Resou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to all discussion thread questions (substantial post – 100+ w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amp; interact with classmates’ posts (2-3 of these for each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seminar or complete seminar alternate assig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d submit Bio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minar</a:t>
            </a:r>
            <a:endParaRPr b="0" lang="en-US" sz="4400" spc="-1" strike="noStrike">
              <a:solidFill>
                <a:srgbClr val="000000"/>
              </a:solidFill>
              <a:latin typeface="Arial"/>
            </a:endParaRPr>
          </a:p>
        </p:txBody>
      </p:sp>
      <p:sp>
        <p:nvSpPr>
          <p:cNvPr id="73" name=""/>
          <p:cNvSpPr txBox="1"/>
          <p:nvPr/>
        </p:nvSpPr>
        <p:spPr>
          <a:xfrm>
            <a:off x="533520" y="1600200"/>
            <a:ext cx="8153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 the topics and major headings to understand the essence of the uni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 is tonight’s class.  If you are here for the whole class…you do not need to do option 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 is a response in the course under the seminar link.  This is an option for times when you can not make it to semina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post your option 2 by Tuesday of each week before 11:59 Eastern if you can not attend a live seminar. If you know that you won’t be able to attend, you can post it earlier in the wee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5B0F-FA73-406E-B1A9-37807EE1A8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e with an assignment? </a:t>
            </a:r>
            <a:br>
              <a:rPr sz="4400"/>
            </a:br>
            <a:r>
              <a:rPr b="0" lang="en-US" sz="4400" spc="-1" strike="noStrike">
                <a:solidFill>
                  <a:srgbClr val="000000"/>
                </a:solidFill>
                <a:latin typeface="Arial"/>
              </a:rPr>
              <a:t>A plan that works with you!</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you are late it is still worth getting the work in…please do contact me if something comes up and you are going to have to be late. It lets me know you are working on i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projects are marked down 5 pts. per week.  Your projects will not be deducted more than 20 points tot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ion questions and seminar option 2 will be accepted late, but it is highly discouraged.  Interaction in class is critical to your educational experie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C0B9-20EF-47C1-8ABD-21588B16B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5T17:08:02Z</dcterms:created>
  <dc:creator>susan</dc:creator>
  <dc:description/>
  <dc:language>en-US</dc:language>
  <cp:lastModifiedBy>Joyce Jones</cp:lastModifiedBy>
  <dcterms:modified xsi:type="dcterms:W3CDTF">2010-09-24T01:02:09Z</dcterms:modified>
  <cp:revision>46</cp:revision>
  <dc:subject/>
  <dc:title>LEARNING in THEORY</dc:title>
</cp:coreProperties>
</file>